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DDD45-1785-4C0D-9EE2-31C0F2569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9955-869A-49AE-83EC-7C8D3DBA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BC8A8-39F8-4DCD-A749-9D9679371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61EC9-C6E0-46A5-B098-F851F2AD7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B317B-E07C-491F-BBD8-A80B356FE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620C2-D810-49AD-A6F5-A59B9B1B2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BD6C4-6FBD-4EBD-8512-5F8D4113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43740-E22C-4220-85B8-8BD41E306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770B-5EE9-4182-B9D8-CAB6C5502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1BE05-3267-4011-BAF3-E7685220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5B6E5-753E-44FB-A776-199A2FB03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38B6-BE63-46D5-B0B8-B506079D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FB69C-2A1F-4990-A925-FA5EBB213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4B15-9F1F-4891-8EF2-9675E055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8F55D-605F-46E4-BB42-9EF355D68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5B5B6-706D-439F-85A5-26F7EAE16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D7E26-0EDA-40EF-8424-81944CFCF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85AB-7DE6-48B2-9628-B32CF8B0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7BADA-14DC-47F6-A4FD-5EB4F585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3D85-8B36-4F21-BE5C-63B6FC37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85B5-BE92-44DE-BF52-3768545E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D270-D4FA-40FF-AF55-45383A33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1201-FDD2-459C-9925-01462E68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7553-B2E1-4406-B031-633C63959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B2DB-3E9C-42F1-840E-97DCFB74F943}"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48520" y="49716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45400" y="259920"/>
                  <a:ext cx="8096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45240" y="140004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8320" y="125460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89040" y="189360"/>
                  <a:ext cx="2869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464A-24FD-45DF-83BB-2AC1741F0015}"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enanaonline.com/users/kayanegypt/tags/11744/post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9600" spc="-1" strike="noStrike" u="sng">
                <a:solidFill>
                  <a:srgbClr val="00b200"/>
                </a:solidFill>
                <a:uFillTx/>
                <a:latin typeface="Comic Sans MS"/>
                <a:hlinkClick r:id="rId1"/>
              </a:rPr>
              <a:t>متلازمة داون</a:t>
            </a:r>
            <a:r>
              <a:rPr b="1" lang="ar-KW" sz="9600" spc="-1" strike="noStrike">
                <a:solidFill>
                  <a:srgbClr val="ff0000"/>
                </a:solidFill>
                <a:latin typeface="Comic Sans MS"/>
              </a:rPr>
              <a:t> </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428760" y="312840"/>
            <a:ext cx="7643520" cy="88678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ستخدام الأدوات الجذابة التي تثير انتباه الطفل</a:t>
            </a:r>
            <a:r>
              <a:rPr b="1" lang="ar-KW"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لما كانت كبيرة وواضحة كانت أفضل</a:t>
            </a:r>
            <a:r>
              <a:rPr b="1" lang="ar-KW"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طريقة </a:t>
            </a:r>
            <a:r>
              <a:rPr b="1" lang="ar-SA" sz="3200" spc="-1" strike="noStrike">
                <a:solidFill>
                  <a:srgbClr val="000000"/>
                </a:solidFill>
                <a:latin typeface="Times New Roman"/>
                <a:cs typeface="Times New Roman"/>
              </a:rPr>
              <a:t>عرض الأنشطة عن طريق إعطاء نموذج وتقسيمها إلى خطوات صغير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cs typeface="Times New Roman"/>
              </a:rPr>
              <a:t>استخدام الالوان البراقة والاساسية لتجذب إ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أنشطة الحركية كلما تحرك الطفل كلما زاد ا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تدعيم المباشر للطفل بمجرد القيام بخطوة ناجح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جمل بسيطة ومفهومة للطفل أثناء عملية التعلم</a:t>
            </a:r>
            <a:r>
              <a:rPr b="1" lang="en-US" sz="3200" spc="-1" strike="noStrike">
                <a:solidFill>
                  <a:srgbClr val="000000"/>
                </a:solidFill>
                <a:latin typeface="Times New Roman"/>
                <a:ea typeface="Times New Roman"/>
              </a:rPr>
              <a:t>.</a:t>
            </a:r>
            <a:br>
              <a:rPr sz="3200"/>
            </a:br>
            <a:r>
              <a:rPr b="1" lang="ar-SA" sz="3200" spc="-1" strike="noStrike">
                <a:solidFill>
                  <a:srgbClr val="000000"/>
                </a:solidFill>
                <a:latin typeface="Times New Roman"/>
                <a:cs typeface="Times New Roman"/>
              </a:rPr>
              <a:t>الأغاني والايقاع تكون أكثر إثارة من الكلمات</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مسموعة</a:t>
            </a:r>
            <a:r>
              <a:rPr b="1" lang="en-US" sz="1800" spc="-1" strike="noStrike">
                <a:solidFill>
                  <a:srgbClr val="000000"/>
                </a:solidFill>
                <a:latin typeface="Comic Sans MS"/>
                <a:ea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793800"/>
            <a:ext cx="7358040" cy="801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شكلة في المهارة التي يتعلمها</a:t>
            </a:r>
            <a:endParaRPr b="0" lang="en-US" sz="4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نـوضـح لـلـطـفـل الـخـطـوات الـمـطـلـوبـة مـنـه لـلـقـيـام بها ولـذلـك نواجه</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ــعـض الـمـشـكــلات</a:t>
            </a:r>
            <a:r>
              <a:rPr b="1" lang="ar-SA" sz="4000" spc="-1" strike="noStrike">
                <a:solidFill>
                  <a:srgbClr val="000000"/>
                </a:solidFill>
                <a:latin typeface="Times New Roman"/>
                <a:ea typeface="Times New Roman"/>
              </a:rPr>
              <a:t>.</a:t>
            </a:r>
            <a:endParaRPr b="0" lang="en-US" sz="40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ar-SA" sz="4000" spc="-1" strike="noStrike">
                <a:solidFill>
                  <a:srgbClr val="002060"/>
                </a:solidFill>
                <a:latin typeface="Times New Roman"/>
                <a:cs typeface="Times New Roman"/>
              </a:rPr>
              <a:t>كيف نتغلب على هذه المشكلة</a:t>
            </a:r>
            <a:endParaRPr b="0" lang="en-US" sz="40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t>
            </a:r>
            <a:r>
              <a:rPr b="0" lang="en-US" sz="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عدم إعطاء مهارات كثيرة يتعلمها الطفل في وقت واحد</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قسيم المهمة إلى خطوات صغيرة وبسيطة ولا ننتقل إلى الخطوة التالية إلا بعد التأكد من أن الطفل أتقن الخطو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عطاء الوقت الكافي للطفل في</a:t>
            </a:r>
            <a:r>
              <a:rPr b="1" lang="ar-KW" sz="3200" spc="-1" strike="noStrike">
                <a:solidFill>
                  <a:srgbClr val="000000"/>
                </a:solidFill>
                <a:latin typeface="Times New Roman"/>
                <a:ea typeface="Times New Roman"/>
              </a:rPr>
              <a:t> كل محاولة</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2357280" y="571680"/>
            <a:ext cx="42148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rPr>
              <a:t>مشكلة في التذكر</a:t>
            </a:r>
            <a:endParaRPr b="0" lang="en-US" sz="4000" spc="-1" strike="noStrike">
              <a:solidFill>
                <a:srgbClr val="000000"/>
              </a:solidFill>
              <a:latin typeface="Comic Sans MS"/>
            </a:endParaRPr>
          </a:p>
        </p:txBody>
      </p:sp>
      <p:sp>
        <p:nvSpPr>
          <p:cNvPr id="169" name="Rectangle 1"/>
          <p:cNvSpPr/>
          <p:nvPr/>
        </p:nvSpPr>
        <p:spPr>
          <a:xfrm>
            <a:off x="285840" y="165960"/>
            <a:ext cx="8215200" cy="8015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ـل الطبيعـي يـتـعـلم بعض المهارات والمعلومات اليومية بشكل تلقائي بينما الطفل المعاق لا يتـعـلم بنـفـس الطـريـقـة نتـيجة لضعف الذاكرة قصيرة المدى.</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4000" spc="-1" strike="noStrike">
                <a:solidFill>
                  <a:srgbClr val="002060"/>
                </a:solidFill>
                <a:latin typeface="Comic Sans MS"/>
                <a:cs typeface="Times New Roman"/>
              </a:rPr>
              <a:t>كيف نتغلب على هذه المشكل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التكرار الدائم للمهارة وبأساليب مختلفة لتثبيت المهار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إضافة الجديد بالتدرج مع تكرار القديم</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محاولة استخدام أكثر من حاسة عند توصيل المهارة وذلك لأن الاحصائيات تقول</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10</a:t>
            </a:r>
            <a:r>
              <a:rPr b="1" lang="ar-SA" sz="3200" spc="-1" strike="noStrike">
                <a:solidFill>
                  <a:srgbClr val="000000"/>
                </a:solidFill>
                <a:latin typeface="Comic Sans MS"/>
                <a:ea typeface="Times New Roman"/>
              </a:rPr>
              <a:t>% فقط مما يسمع</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50</a:t>
            </a:r>
            <a:r>
              <a:rPr b="1" lang="ar-SA" sz="3200" spc="-1" strike="noStrike">
                <a:solidFill>
                  <a:srgbClr val="000000"/>
                </a:solidFill>
                <a:latin typeface="Comic Sans MS"/>
                <a:ea typeface="Times New Roman"/>
              </a:rPr>
              <a:t>% مما يسمع ويرى</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90</a:t>
            </a:r>
            <a:r>
              <a:rPr b="1" lang="ar-SA" sz="3200" spc="-1" strike="noStrike">
                <a:solidFill>
                  <a:srgbClr val="000000"/>
                </a:solidFill>
                <a:latin typeface="Comic Sans MS"/>
                <a:ea typeface="Times New Roman"/>
              </a:rPr>
              <a:t>% مما يسمع ويرى وينفذ</a:t>
            </a:r>
            <a:r>
              <a:rPr b="1" lang="en-US" sz="3200" spc="-1" strike="noStrike">
                <a:solidFill>
                  <a:srgbClr val="000000"/>
                </a:solidFill>
                <a:latin typeface="Comic Sans MS"/>
                <a:ea typeface="Times New Roman"/>
              </a:rPr>
              <a:t>.</a:t>
            </a:r>
            <a:r>
              <a:rPr b="1" lang="ar-SA"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928800" y="642960"/>
            <a:ext cx="7143480" cy="58219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مشكلة في التعميم</a:t>
            </a:r>
            <a:endParaRPr b="0" lang="en-US" sz="40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ل المعاق يواجه مشكلة إذا اختلف الموقف التعليمي من حيث الأدوات والمكان والشخص وبالتالي فلابد من تعليم الطفل أن يعمم هذه المهارة على الأشياء المماثلة</a:t>
            </a:r>
            <a:r>
              <a:rPr b="1" lang="ar-SA" sz="1800" spc="-1" strike="noStrike">
                <a:solidFill>
                  <a:srgbClr val="000000"/>
                </a:solidFill>
                <a:latin typeface="Comic Sans MS"/>
                <a:ea typeface="Times New Roman"/>
              </a:rPr>
              <a:t>.</a:t>
            </a:r>
            <a:endParaRPr b="0" lang="en-US" sz="18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omic Sans MS"/>
              </a:rPr>
              <a:t> </a:t>
            </a:r>
            <a:r>
              <a:rPr b="1" lang="ar-SA" sz="4000" spc="-1" strike="noStrike">
                <a:solidFill>
                  <a:srgbClr val="002060"/>
                </a:solidFill>
                <a:latin typeface="Comic Sans MS"/>
              </a:rPr>
              <a:t>كيف نتغلب على هذه المشكلة</a:t>
            </a:r>
            <a:r>
              <a:rPr b="1" lang="en-US" sz="4000" spc="-1" strike="noStrike">
                <a:solidFill>
                  <a:srgbClr val="002060"/>
                </a:solidFill>
                <a:latin typeface="Comic Sans MS"/>
              </a:rPr>
              <a:t>:</a:t>
            </a:r>
            <a:endParaRPr b="0" lang="en-US" sz="40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r>
              <a:rPr b="0" lang="en-US" sz="3200" spc="-1" strike="noStrike">
                <a:solidFill>
                  <a:srgbClr val="000000"/>
                </a:solidFill>
                <a:latin typeface="Comic Sans MS"/>
              </a:rPr>
              <a:t> </a:t>
            </a:r>
            <a:r>
              <a:rPr b="1" lang="ar-SA" sz="3200" spc="-1" strike="noStrike">
                <a:solidFill>
                  <a:srgbClr val="000000"/>
                </a:solidFill>
                <a:latin typeface="Comic Sans MS"/>
              </a:rPr>
              <a:t>تـكـرار المهـارة عـلـى أدوات مختلفة وفي أماكن مختلفة في حياته</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32760"/>
            <a:ext cx="8072280" cy="21967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المراحل الأساسية عند اكتساب الطفل أي مهارة</a:t>
            </a:r>
            <a:r>
              <a:rPr b="1" lang="en-US" sz="4000" spc="-1" strike="noStrike">
                <a:solidFill>
                  <a:srgbClr val="ff0000"/>
                </a:solidFill>
                <a:latin typeface="Comic Sans MS"/>
                <a:ea typeface="Times New Roman"/>
              </a:rPr>
              <a:t>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Rectangle 2"/>
          <p:cNvSpPr/>
          <p:nvPr/>
        </p:nvSpPr>
        <p:spPr>
          <a:xfrm>
            <a:off x="5622120" y="1714680"/>
            <a:ext cx="3225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omic Sans MS"/>
              </a:rPr>
              <a:t>مرحلة الجسم</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3" name="Rectangle 2"/>
          <p:cNvSpPr/>
          <p:nvPr/>
        </p:nvSpPr>
        <p:spPr>
          <a:xfrm>
            <a:off x="357120" y="1949760"/>
            <a:ext cx="85010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جسم الطفل نفسه في التعرف على المهارة حتى يدركها بالجسم.</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عند تعليم أجزاء الجسم ( نبدأ بأجزاء جسم الطفل هو أول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ـيـم مهـارة ( فـوق) يصعـد الطـفـل بجسمه فوق الطاولة.</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cs typeface="Times New Roman"/>
              </a:rPr>
              <a:t>مرحلة الشيء</a:t>
            </a:r>
            <a:endParaRPr b="0" lang="en-US" sz="4400" spc="-1" strike="noStrike">
              <a:solidFill>
                <a:srgbClr val="000000"/>
              </a:solidFill>
              <a:latin typeface="Comic Sans MS"/>
            </a:endParaRPr>
          </a:p>
        </p:txBody>
      </p:sp>
      <p:sp>
        <p:nvSpPr>
          <p:cNvPr id="175" name=""/>
          <p:cNvSpPr txBox="1"/>
          <p:nvPr/>
        </p:nvSpPr>
        <p:spPr>
          <a:xfrm>
            <a:off x="685800" y="1285560"/>
            <a:ext cx="7696080" cy="5072040"/>
          </a:xfrm>
          <a:prstGeom prst="rect">
            <a:avLst/>
          </a:prstGeom>
          <a:noFill/>
          <a:ln w="0">
            <a:noFill/>
          </a:ln>
        </p:spPr>
        <p:txBody>
          <a:bodyPr anchor="t">
            <a:normAutofit fontScale="87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الأشياء المجسمة الكبيرة</a:t>
            </a:r>
            <a:r>
              <a:rPr b="1"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في البداية ثم نقلل حتى نستخدم مجسمات أصغر.</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يم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تستخدم العروسة في معرفة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ـعليم مهارة فوق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نعطي الطفل بعض الألعاب التي يضعها فوق الطاولة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42960"/>
            <a:ext cx="6870600" cy="1000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br>
              <a:rPr sz="4400"/>
            </a:br>
            <a:r>
              <a:rPr b="1" lang="ar-SA" sz="4400" spc="-1" strike="noStrike">
                <a:solidFill>
                  <a:srgbClr val="ff0000"/>
                </a:solidFill>
                <a:latin typeface="Comic Sans MS"/>
              </a:rPr>
              <a:t>مرحلة الرمز</a:t>
            </a:r>
            <a:r>
              <a:rPr b="1" lang="en-US" sz="4400" spc="-1" strike="noStrike">
                <a:solidFill>
                  <a:srgbClr val="000000"/>
                </a:solidFill>
                <a:latin typeface="Comic Sans MS"/>
              </a:rPr>
              <a:t>:</a:t>
            </a:r>
            <a:br>
              <a:rPr sz="4400"/>
            </a:br>
            <a:endParaRPr b="0" lang="en-US" sz="4400" spc="-1" strike="noStrike">
              <a:solidFill>
                <a:srgbClr val="000000"/>
              </a:solidFill>
              <a:latin typeface="Comic Sans MS"/>
            </a:endParaRPr>
          </a:p>
        </p:txBody>
      </p:sp>
      <p:sp>
        <p:nvSpPr>
          <p:cNvPr id="177" name=""/>
          <p:cNvSpPr txBox="1"/>
          <p:nvPr/>
        </p:nvSpPr>
        <p:spPr>
          <a:xfrm>
            <a:off x="685800" y="1142640"/>
            <a:ext cx="7696080" cy="6000840"/>
          </a:xfrm>
          <a:prstGeom prst="rect">
            <a:avLst/>
          </a:prstGeom>
          <a:noFill/>
          <a:ln w="0">
            <a:noFill/>
          </a:ln>
        </p:spPr>
        <p:txBody>
          <a:bodyPr anchor="t">
            <a:normAutofit fontScale="83000"/>
          </a:bodyPr>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هي المرحلة الأكثر صعوبة ولا ننتقل إليها إلا بعد أن تتأكد أن الطفل قد تعرف على المهارة جيداً على نفسه ثم على الأشياء وهنا ننتقل إلى المرحلة الثالثة وهي على الورقة والقلم.</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1</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أجزاء الجسم ( نطلب من الطفل يلون أجزاء محددة من الجسم على الصورة - أو يشير - أو يلصق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2</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مهارة فوق ( نطلب منه تلوين الأشياء الموجودة فوق الطاولة أو الموجودة تحت الطاولة).</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840"/>
            <a:ext cx="6870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00"/>
                </a:solidFill>
                <a:latin typeface="Comic Sans MS"/>
              </a:rPr>
              <a:t>متلازمة داو</a:t>
            </a:r>
            <a:r>
              <a:rPr b="1" lang="ar-KW" sz="6600" spc="-1" strike="noStrike">
                <a:solidFill>
                  <a:srgbClr val="ff0000"/>
                </a:solidFill>
                <a:latin typeface="Comic Sans MS"/>
              </a:rPr>
              <a:t>ن</a:t>
            </a:r>
            <a:endParaRPr b="0" lang="en-US" sz="6600" spc="-1" strike="noStrike">
              <a:solidFill>
                <a:srgbClr val="000000"/>
              </a:solidFill>
              <a:latin typeface="Comic Sans MS"/>
            </a:endParaRPr>
          </a:p>
        </p:txBody>
      </p:sp>
      <p:sp>
        <p:nvSpPr>
          <p:cNvPr id="153" name="Rectangle 2"/>
          <p:cNvSpPr/>
          <p:nvPr/>
        </p:nvSpPr>
        <p:spPr>
          <a:xfrm>
            <a:off x="428760" y="1212840"/>
            <a:ext cx="8001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تلازمةُ داون هي اضطرابٌ جيني يسبب أعراضاً جسديةً وعقلية. </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ولد الطفلُ المصاب بها وهو يحمل صبغياتٍ زائدة. والصبغياتُ هي مواد جينية في خلايا الجسم. </a:t>
            </a:r>
            <a:r>
              <a:rPr b="1" lang="ar-KW" sz="3200" spc="-1" strike="noStrike">
                <a:solidFill>
                  <a:srgbClr val="000000"/>
                </a:solidFill>
                <a:latin typeface="Times New Roman"/>
                <a:cs typeface="Times New Roman"/>
              </a:rPr>
              <a:t>يوجد</a:t>
            </a:r>
            <a:r>
              <a:rPr b="1" lang="ar-SA" sz="3200" spc="-1" strike="noStrike">
                <a:solidFill>
                  <a:srgbClr val="000000"/>
                </a:solidFill>
                <a:latin typeface="Times New Roman"/>
                <a:ea typeface="Times New Roman"/>
              </a:rPr>
              <a:t> في كل خليةٍ بشرية ستةً وأربعين صبغياً. تحدد</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يفية</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شكُّل</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جسم</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ونموه</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صابين بمتلازمة داون يملكون نسخةً إضافية من الصبغي رقم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إنَّ الصبغي الإضافي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في الأطفال المصابين بمتلازمة داون يسبب حدوث تغيُّرات في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طوُّر الجسم والدماغ. وهذا ما يؤدِّي إلى مشكلاتٍ عقليةٍ وجسدية لدى الطف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1000080" y="2299680"/>
            <a:ext cx="6929640" cy="3018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عين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سمع</a:t>
            </a:r>
            <a:r>
              <a:rPr b="0" lang="en-US" sz="1000" spc="-1" strike="noStrike">
                <a:solidFill>
                  <a:srgbClr val="333333"/>
                </a:solidFill>
                <a:latin typeface="Tahoma"/>
                <a:ea typeface="Times New Roman"/>
              </a:rPr>
              <a:t>.</a:t>
            </a:r>
            <a:endParaRPr b="0" lang="en-US" sz="10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شكلات معو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في</a:t>
            </a:r>
            <a:r>
              <a:rPr b="1" lang="ar-KW" sz="3200" spc="-1" strike="noStrike">
                <a:solidFill>
                  <a:srgbClr val="000000"/>
                </a:solidFill>
                <a:latin typeface="Times New Roman"/>
                <a:ea typeface="Times New Roman"/>
              </a:rPr>
              <a:t> الهيكل العظم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cs typeface="Times New Roman"/>
              </a:rPr>
              <a:t>عيب ولادي </a:t>
            </a:r>
            <a:r>
              <a:rPr b="1" lang="ar-SA" sz="3200" spc="-1" strike="noStrike">
                <a:solidFill>
                  <a:srgbClr val="000000"/>
                </a:solidFill>
                <a:latin typeface="Times New Roman"/>
                <a:cs typeface="Times New Roman"/>
              </a:rPr>
              <a:t>في القلب</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دَّرق</a:t>
            </a:r>
            <a:r>
              <a:rPr b="1"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
        <p:nvSpPr>
          <p:cNvPr id="155" name="Rectangle 2"/>
          <p:cNvSpPr/>
          <p:nvPr/>
        </p:nvSpPr>
        <p:spPr>
          <a:xfrm>
            <a:off x="357120" y="714240"/>
            <a:ext cx="75726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كون لدى الأشخاص المصابين بمتلازمة داون عادةً مشكلاتٌ صحيةٌ أخرى ناتجةٌ عن وجود الصبغي الإضافي</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214200" y="196920"/>
            <a:ext cx="8286840" cy="10026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Comic Sans MS"/>
              </a:rPr>
              <a:t>    السمات الجسمية لأطفال </a:t>
            </a:r>
            <a:r>
              <a:rPr b="1" lang="ar-KW" sz="4000" spc="-1" strike="noStrike" u="sng">
                <a:solidFill>
                  <a:srgbClr val="ff0000"/>
                </a:solidFill>
                <a:uFillTx/>
                <a:latin typeface="Comic Sans MS"/>
              </a:rPr>
              <a:t>متلازمة داون</a:t>
            </a:r>
            <a:r>
              <a:rPr b="1" lang="ar-KW" sz="4000" spc="-1" strike="noStrike">
                <a:solidFill>
                  <a:srgbClr val="ff0000"/>
                </a:solidFill>
                <a:latin typeface="Comic Sans MS"/>
              </a:rPr>
              <a:t> :</a:t>
            </a:r>
            <a:br>
              <a:rPr sz="2800"/>
            </a:br>
            <a:br>
              <a:rPr sz="2800"/>
            </a:br>
            <a:r>
              <a:rPr b="1" lang="ar-KW" sz="3200" spc="-1" strike="noStrike">
                <a:solidFill>
                  <a:srgbClr val="000000"/>
                </a:solidFill>
                <a:latin typeface="Comic Sans MS"/>
              </a:rPr>
              <a:t>يتم تشخيص طفل (( </a:t>
            </a:r>
            <a:r>
              <a:rPr b="1" lang="ar-KW" sz="3200" spc="-1" strike="noStrike" u="sng">
                <a:solidFill>
                  <a:srgbClr val="000000"/>
                </a:solidFill>
                <a:uFillTx/>
                <a:latin typeface="Comic Sans MS"/>
              </a:rPr>
              <a:t>متلازمة داون</a:t>
            </a:r>
            <a:r>
              <a:rPr b="1" lang="ar-KW" sz="3200" spc="-1" strike="noStrike">
                <a:solidFill>
                  <a:srgbClr val="000000"/>
                </a:solidFill>
                <a:latin typeface="Comic Sans MS"/>
              </a:rPr>
              <a:t> )) مبكراً بعد الولادة مبنياً على ملامح وجه وسمات جسمية على الطفل ومن أهم الملامح والسمات ما يلي : </a:t>
            </a:r>
            <a:br>
              <a:rPr sz="3200"/>
            </a:br>
            <a:r>
              <a:rPr b="1" lang="ar-KW" sz="3200" spc="-1" strike="noStrike">
                <a:solidFill>
                  <a:srgbClr val="000000"/>
                </a:solidFill>
                <a:latin typeface="Comic Sans MS"/>
              </a:rPr>
              <a:t>- ارتخاء عام في عضلات الجسم والمفاصل وضعفها ، وقد تتحسن حالة الطفل كلما كبر</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يكون وزن الطفل وطوله أقل من المعدل عند الولاد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حواجب متقاربة فوق الأنف ، ومرسوم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عينان صغيرتان مائلتان نحو الأعلى مع وجود تشقق في الجفو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أذنان صغيرتان ومنخفضت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خشونة وتجعد في البشرة مع نعومة الشعر وخفته </a:t>
            </a:r>
            <a:r>
              <a:rPr b="0"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428760"/>
            <a:ext cx="871524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أنف صغير والجسر الأنفي مسطحاً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فم صغير والشفتان عريضتان وجافتان وتجويف الفك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سفلي أصغر قليلاً ،مما يجعل اللسان بارزاً وطويلاً ، وهذ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سلوك يمكن إيقافه عن طريق تعليم الطفل ،وقد تبدو بعض</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تشققات باللس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حجم الأسنان وتشوهها ، مما يؤدي إلى صعوبات في النطق</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الأيادي وقصر الأصابع بالإضافة إلى وجود خط أفقي في راحة اليد </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785880" y="714240"/>
            <a:ext cx="750096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omic Sans MS"/>
              </a:rPr>
              <a:t>- </a:t>
            </a:r>
            <a:r>
              <a:rPr b="1" lang="ar-KW" sz="3200" spc="-1" strike="noStrike">
                <a:solidFill>
                  <a:srgbClr val="000000"/>
                </a:solidFill>
                <a:latin typeface="Comic Sans MS"/>
              </a:rPr>
              <a:t>الرقبة قصيرة ، والشعر ناعم ومستقي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عظم الكتف قصير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معظم أطفال (( متلازمة داون )) قصار القامة ، ممتلئي الجس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رأس مستدير ، صغير الحجم نسبياً ، وجبهته عريضة ، ويلاحظ تفلطح مؤخرة الرأس مما يجعله دائرياً </a:t>
            </a:r>
            <a:br>
              <a:rPr sz="3200"/>
            </a:br>
            <a:r>
              <a:rPr b="1" lang="ar-KW" sz="3200" spc="-1" strike="noStrike">
                <a:solidFill>
                  <a:srgbClr val="000000"/>
                </a:solidFill>
                <a:latin typeface="Comic Sans MS"/>
              </a:rPr>
              <a:t>- توجد مسافة بين إصبعي الرجل ( الإبهام والسبابة ) </a:t>
            </a:r>
            <a:r>
              <a:rPr b="1"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6760" y="285840"/>
            <a:ext cx="7172280" cy="1000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omic Sans MS"/>
              </a:rPr>
              <a:t>السمات العقلية لأطفال (( متلازمة داون)) </a:t>
            </a:r>
            <a:r>
              <a:rPr b="0" lang="ar-SA" sz="4400" spc="-1" strike="noStrike">
                <a:solidFill>
                  <a:srgbClr val="222222"/>
                </a:solidFill>
                <a:latin typeface="Comic Sans MS"/>
              </a:rPr>
              <a:t> </a:t>
            </a:r>
            <a:endParaRPr b="0" lang="en-US" sz="4400" spc="-1" strike="noStrike">
              <a:solidFill>
                <a:srgbClr val="000000"/>
              </a:solidFill>
              <a:latin typeface="Comic Sans MS"/>
            </a:endParaRPr>
          </a:p>
        </p:txBody>
      </p:sp>
      <p:sp>
        <p:nvSpPr>
          <p:cNvPr id="160" name="Rectangle 1"/>
          <p:cNvSpPr/>
          <p:nvPr/>
        </p:nvSpPr>
        <p:spPr>
          <a:xfrm>
            <a:off x="8916120" y="1440"/>
            <a:ext cx="22356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Comic Sans MS"/>
              </a:rPr>
              <a:t> </a:t>
            </a:r>
            <a:br>
              <a:rPr sz="1800"/>
            </a:br>
            <a:endParaRPr b="0" lang="en-US" sz="1200" spc="-1" strike="noStrike">
              <a:solidFill>
                <a:srgbClr val="000000"/>
              </a:solidFill>
              <a:latin typeface="Comic Sans MS"/>
            </a:endParaRPr>
          </a:p>
        </p:txBody>
      </p:sp>
      <p:sp>
        <p:nvSpPr>
          <p:cNvPr id="161" name="AutoShape 2"/>
          <p:cNvSpPr/>
          <p:nvPr/>
        </p:nvSpPr>
        <p:spPr>
          <a:xfrm>
            <a:off x="7602480" y="2103480"/>
            <a:ext cx="304920" cy="30492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5"/>
          <p:cNvSpPr/>
          <p:nvPr/>
        </p:nvSpPr>
        <p:spPr>
          <a:xfrm>
            <a:off x="285840" y="1285920"/>
            <a:ext cx="8143920" cy="679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مستوى الذكاء للفرد العادي يترواح ما بين </a:t>
            </a:r>
            <a:r>
              <a:rPr b="1" lang="ar-SA" sz="3200" spc="-1" strike="noStrike">
                <a:solidFill>
                  <a:srgbClr val="222222"/>
                </a:solidFill>
                <a:latin typeface="Comic Sans MS"/>
              </a:rPr>
              <a:t>90</a:t>
            </a:r>
            <a:r>
              <a:rPr b="1" lang="ar-SA" sz="3200" spc="-1" strike="noStrike">
                <a:solidFill>
                  <a:srgbClr val="222222"/>
                </a:solidFill>
                <a:latin typeface="Comic Sans MS"/>
              </a:rPr>
              <a:t>- </a:t>
            </a:r>
            <a:r>
              <a:rPr b="1" lang="ar-SA" sz="3200" spc="-1" strike="noStrike">
                <a:solidFill>
                  <a:srgbClr val="222222"/>
                </a:solidFill>
                <a:latin typeface="Comic Sans MS"/>
              </a:rPr>
              <a:t>110</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ذكاء المصابين ( بمتلازمة داون ) يترواح ما بين </a:t>
            </a:r>
            <a:r>
              <a:rPr b="1" lang="ar-SA" sz="3200" spc="-1" strike="noStrike">
                <a:solidFill>
                  <a:srgbClr val="222222"/>
                </a:solidFill>
                <a:latin typeface="Comic Sans MS"/>
              </a:rPr>
              <a:t>35</a:t>
            </a:r>
            <a:r>
              <a:rPr b="1" lang="ar-SA" sz="3200" spc="-1" strike="noStrike">
                <a:solidFill>
                  <a:srgbClr val="222222"/>
                </a:solidFill>
                <a:latin typeface="Comic Sans MS"/>
              </a:rPr>
              <a:t>-</a:t>
            </a:r>
            <a:r>
              <a:rPr b="1" lang="ar-SA" sz="3200" spc="-1" strike="noStrike">
                <a:solidFill>
                  <a:srgbClr val="222222"/>
                </a:solidFill>
                <a:latin typeface="Comic Sans MS"/>
              </a:rPr>
              <a:t>75</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التخلف العقلي البسيط) ، وأحياناً إلى </a:t>
            </a:r>
            <a:r>
              <a:rPr b="1" lang="ar-SA" sz="3200" spc="-1" strike="noStrike">
                <a:solidFill>
                  <a:srgbClr val="222222"/>
                </a:solidFill>
                <a:latin typeface="Comic Sans MS"/>
              </a:rPr>
              <a:t>80</a:t>
            </a:r>
            <a:r>
              <a:rPr b="1" lang="ar-SA" sz="3200" spc="-1" strike="noStrike">
                <a:solidFill>
                  <a:srgbClr val="222222"/>
                </a:solidFill>
                <a:latin typeface="Comic Sans MS"/>
              </a:rPr>
              <a:t> ، وهذا يرجع إلى طبيعة الأسرة ، ومدى الاهتمام التربوي والنفسي والاجتماعي بالطفل ، وإلى دور المؤسسات</a:t>
            </a:r>
            <a:r>
              <a:rPr b="1" lang="en-US" sz="3200" spc="-1" strike="noStrike">
                <a:solidFill>
                  <a:srgbClr val="222222"/>
                </a:solidFill>
                <a:latin typeface="Comic Sans MS"/>
              </a:rPr>
              <a:t> </a:t>
            </a:r>
            <a:r>
              <a:rPr b="1" lang="ar-SA" sz="3200" spc="-1" strike="noStrike">
                <a:solidFill>
                  <a:srgbClr val="222222"/>
                </a:solidFill>
                <a:latin typeface="Comic Sans MS"/>
              </a:rPr>
              <a:t>المجتمعية تجاه هؤلاء الأطفال </a:t>
            </a:r>
            <a:br>
              <a:rPr sz="3200"/>
            </a:br>
            <a:r>
              <a:rPr b="1" lang="ar-SA" sz="3200" spc="-1" strike="noStrike">
                <a:solidFill>
                  <a:srgbClr val="222222"/>
                </a:solidFill>
                <a:latin typeface="Comic Sans MS"/>
              </a:rPr>
              <a:t>مع الملاحظة بأن البعض منهم لا توجد لهم السمات المطابقة لأطفال الداون</a:t>
            </a:r>
            <a:br>
              <a:rPr sz="3200"/>
            </a:br>
            <a:br>
              <a:rPr sz="3200"/>
            </a:br>
            <a:br>
              <a:rPr sz="28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500040" y="1041480"/>
            <a:ext cx="76438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وأثبتت الدراسات الحديثة أن النشاطات والتفاعلات العقلية لبعض منهم لا تتجاوز الحد الأدنى المتعارف عليه بالنسبة للطفل العادي وإن بعضهم الآخر يعاني</a:t>
            </a:r>
            <a:r>
              <a:rPr b="1" lang="ar-KW" sz="3200" spc="-1" strike="noStrike">
                <a:solidFill>
                  <a:srgbClr val="222222"/>
                </a:solidFill>
                <a:latin typeface="Comic Sans MS"/>
              </a:rPr>
              <a:t> </a:t>
            </a:r>
            <a:r>
              <a:rPr b="1" lang="ar-SA" sz="3200" spc="-1" strike="noStrike">
                <a:solidFill>
                  <a:srgbClr val="222222"/>
                </a:solidFill>
                <a:latin typeface="Comic Sans MS"/>
              </a:rPr>
              <a:t>من تخلف بسيط أو متوسط وإن القلة القليلة فقط تعاني من التخلف العقلي </a:t>
            </a:r>
            <a:br>
              <a:rPr sz="3200"/>
            </a:br>
            <a:r>
              <a:rPr b="1" lang="ar-SA" sz="3200" spc="-1" strike="noStrike">
                <a:solidFill>
                  <a:srgbClr val="222222"/>
                </a:solidFill>
                <a:latin typeface="Comic Sans MS"/>
              </a:rPr>
              <a:t>إلى درجة كبيرة ، وهذا يعني أن الطفل المصاب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 بمتلازمة داون )) قادر على التعلم </a:t>
            </a:r>
            <a:r>
              <a:rPr b="1" lang="ar-KW" sz="3200" spc="-1" strike="noStrike">
                <a:solidFill>
                  <a:srgbClr val="222222"/>
                </a:solidFill>
                <a:latin typeface="Comic Sans MS"/>
              </a:rPr>
              <a:t> </a:t>
            </a:r>
            <a:r>
              <a:rPr b="1" lang="ar-SA" sz="3200" spc="-1" strike="noStrike">
                <a:solidFill>
                  <a:srgbClr val="222222"/>
                </a:solidFill>
                <a:latin typeface="Comic Sans MS"/>
              </a:rPr>
              <a:t>والاستيعاب ولا خوف من نسيانه لما تعلم واستوعب </a:t>
            </a:r>
            <a:r>
              <a:rPr b="1" lang="ar-KW" sz="3200" spc="-1" strike="noStrike">
                <a:solidFill>
                  <a:srgbClr val="222222"/>
                </a:solidFill>
                <a:latin typeface="Comic Sans MS"/>
              </a:rPr>
              <a:t>.</a:t>
            </a:r>
            <a:br>
              <a:rPr sz="3200"/>
            </a:br>
            <a:br>
              <a:rPr sz="3200"/>
            </a:br>
            <a:br>
              <a:rPr sz="3200"/>
            </a:b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071720" y="284760"/>
            <a:ext cx="678636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الصعوبات التي تواجه من لديهم متلازمة</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داون</a:t>
            </a: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cs typeface="Times New Roman"/>
              </a:rPr>
              <a:t>في عملية التدريب والتعليم</a:t>
            </a:r>
            <a:r>
              <a:rPr b="1" lang="en-US" sz="3200" spc="-1" strike="noStrike">
                <a:solidFill>
                  <a:srgbClr val="ff0000"/>
                </a:solidFill>
                <a:latin typeface="Times New Roman"/>
                <a:ea typeface="Times New Roman"/>
              </a:rPr>
              <a:t>       </a:t>
            </a:r>
            <a:endParaRPr b="0" lang="en-US" sz="3200" spc="-1" strike="noStrike">
              <a:solidFill>
                <a:srgbClr val="000000"/>
              </a:solidFill>
              <a:latin typeface="Comic Sans MS"/>
            </a:endParaRPr>
          </a:p>
        </p:txBody>
      </p:sp>
      <p:sp>
        <p:nvSpPr>
          <p:cNvPr id="165" name="Rectangle 2"/>
          <p:cNvSpPr/>
          <p:nvPr/>
        </p:nvSpPr>
        <p:spPr>
          <a:xfrm>
            <a:off x="428760" y="732960"/>
            <a:ext cx="8072280" cy="7192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شكلة الانتبا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 الجلوس لفترةطويل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نظر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استماع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ـــيــف نـتـغـلـب عـــلــى</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هذه الــمـشكـلـــ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ختيار الوقت المناسب للطفل للمشاركة في النشاط</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إختيار المكان المناسب الذي تقل فيه المثيرات التي تشتت انتباه الطفل</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a:t>
            </a:r>
            <a:r>
              <a:rPr b="1" lang="ar-SA" sz="1400" spc="-1" strike="noStrike">
                <a:solidFill>
                  <a:srgbClr val="000000"/>
                </a:solidFill>
                <a:latin typeface="Comic Sans MS"/>
                <a:cs typeface="Times New Roman"/>
              </a:rPr>
              <a:t>مكررة</a:t>
            </a:r>
            <a:r>
              <a:rPr b="0" lang="en-US" sz="1100" spc="-1" strike="noStrike">
                <a:solidFill>
                  <a:srgbClr val="000000"/>
                </a:solidFill>
                <a:latin typeface="Comic Sans MS"/>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4:58Z</dcterms:created>
  <dc:creator>win</dc:creator>
  <dc:description/>
  <dc:language>en-US</dc:language>
  <cp:lastModifiedBy>malak q8</cp:lastModifiedBy>
  <dcterms:modified xsi:type="dcterms:W3CDTF">2019-09-16T14:48:45Z</dcterms:modified>
  <cp:revision>135</cp:revision>
  <dc:subject/>
  <dc:title>استراتيجية التعلم النشط</dc:title>
</cp:coreProperties>
</file>